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A0C-4421-405B-83EF-4E396F8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F76-2701-469B-989D-1740B4F7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D1D-FC63-4C20-BAFD-CF4F5F27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680-A353-4F35-9397-7A0C24D4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511-EF14-46D5-8F15-893F4DF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2BD-F1D3-4466-97E3-FFA9EEB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595-FB23-4070-872F-F99C98A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9EB-29C8-47BA-A151-7AE7F6F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3C3-04EA-4B06-981E-E85C961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3A9-B94E-4E4E-8148-1A1C76B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AFD-A0E8-4D47-BD2E-82D5D129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977-13E0-4C7F-9F00-17CB4F3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B71C-E66A-4424-B988-6C6215CBE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titlewave.com/cover?FLR=17988S3&amp;SID=3833bd3ee416a56ca593ea60b346d3ff&amp;dir=next&amp;seq=1&amp;type=cover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e At Its Be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113184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457200"/>
            <a:ext cx="1455480" cy="145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673280" cy="163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ura Belpre Medal"/>
          <p:cNvPicPr/>
          <p:nvPr/>
        </p:nvPicPr>
        <p:blipFill>
          <a:blip r:embed="rId5"/>
          <a:stretch/>
        </p:blipFill>
        <p:spPr>
          <a:xfrm>
            <a:off x="533520" y="4495680"/>
            <a:ext cx="151128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467480" y="4038480"/>
            <a:ext cx="11876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543800" y="762120"/>
            <a:ext cx="1362240" cy="13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286000" y="990720"/>
            <a:ext cx="15620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nei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1541520" cy="2362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s for a book that embodies an artistic expression of the disability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1485720" cy="14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Cover image for Rules"/>
          <p:cNvPicPr/>
          <p:nvPr/>
        </p:nvPicPr>
        <p:blipFill>
          <a:blip r:embed="rId3"/>
          <a:stretch/>
        </p:blipFill>
        <p:spPr>
          <a:xfrm>
            <a:off x="609480" y="2362320"/>
            <a:ext cx="1754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wards &amp; Scholarships." American Library Association. 2006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a.org/alsc/awards.html (Accessed 11 Oct, 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ollett Resources." 09 28 2007 &lt;http://www.titlewave.com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bery A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nually to the Author for the most distinguished American children’s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15200" y="838080"/>
            <a:ext cx="1440000" cy="218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ver image for Bud, not Buddy"/>
          <p:cNvPicPr/>
          <p:nvPr/>
        </p:nvPicPr>
        <p:blipFill>
          <a:blip r:embed="rId3"/>
          <a:stretch/>
        </p:blipFill>
        <p:spPr>
          <a:xfrm>
            <a:off x="5562720" y="1371600"/>
            <a:ext cx="15602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Cover image for On the banks of Plum Creek"/>
          <p:cNvPicPr/>
          <p:nvPr/>
        </p:nvPicPr>
        <p:blipFill>
          <a:blip r:embed="rId4"/>
          <a:stretch/>
        </p:blipFill>
        <p:spPr>
          <a:xfrm>
            <a:off x="3809880" y="4267080"/>
            <a:ext cx="13669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84744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ver image for Rules"/>
          <p:cNvPicPr/>
          <p:nvPr/>
        </p:nvPicPr>
        <p:blipFill>
          <a:blip r:embed="rId6"/>
          <a:stretch/>
        </p:blipFill>
        <p:spPr>
          <a:xfrm>
            <a:off x="1600200" y="4343400"/>
            <a:ext cx="144468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ver image for The higher power of Lucky"/>
          <p:cNvPicPr/>
          <p:nvPr/>
        </p:nvPicPr>
        <p:blipFill>
          <a:blip r:embed="rId7"/>
          <a:stretch/>
        </p:blipFill>
        <p:spPr>
          <a:xfrm>
            <a:off x="5715000" y="4191120"/>
            <a:ext cx="1349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nually to an African American Author and Illu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morates the life and work of Dr. Martin Luther King Jr. and to honor Mrs. Coretta Scott King for her work for peace and world brothe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over image for Bud, not Buddy"/>
          <p:cNvPicPr/>
          <p:nvPr/>
        </p:nvPicPr>
        <p:blipFill>
          <a:blip r:embed="rId1"/>
          <a:stretch/>
        </p:blipFill>
        <p:spPr>
          <a:xfrm>
            <a:off x="6039000" y="1447920"/>
            <a:ext cx="16081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Cover image for Goin' someplace special"/>
          <p:cNvPicPr/>
          <p:nvPr/>
        </p:nvPicPr>
        <p:blipFill>
          <a:blip r:embed="rId2"/>
          <a:stretch/>
        </p:blipFill>
        <p:spPr>
          <a:xfrm>
            <a:off x="5943600" y="4114800"/>
            <a:ext cx="1779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er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to the Authors and Illustrators of the most distinguished informational book published in England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Cover image for The Tarantula scientist (Scien..."/>
          <p:cNvPicPr/>
          <p:nvPr/>
        </p:nvPicPr>
        <p:blipFill>
          <a:blip r:embed="rId1"/>
          <a:stretch/>
        </p:blipFill>
        <p:spPr>
          <a:xfrm>
            <a:off x="5715000" y="1905120"/>
            <a:ext cx="267804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5548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over image for An American plague : the true ..."/>
          <p:cNvPicPr/>
          <p:nvPr/>
        </p:nvPicPr>
        <p:blipFill>
          <a:blip r:embed="rId3"/>
          <a:stretch/>
        </p:blipFill>
        <p:spPr>
          <a:xfrm>
            <a:off x="6324480" y="426708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 Seuss Geisel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to the Authors and Illustrators of the most distinguished contribution for beginning reader books published in the US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over image for Hi! Fly Guy"/>
          <p:cNvPicPr/>
          <p:nvPr/>
        </p:nvPicPr>
        <p:blipFill>
          <a:blip r:embed="rId1"/>
          <a:stretch/>
        </p:blipFill>
        <p:spPr>
          <a:xfrm>
            <a:off x="7315200" y="4038480"/>
            <a:ext cx="1454040" cy="2186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over image for Mercy Watson goes for a ride"/>
          <p:cNvPicPr/>
          <p:nvPr/>
        </p:nvPicPr>
        <p:blipFill>
          <a:blip r:embed="rId2"/>
          <a:stretch/>
        </p:blipFill>
        <p:spPr>
          <a:xfrm>
            <a:off x="6934320" y="19051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over image for Move over, R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343400"/>
            <a:ext cx="171792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1562040" cy="1478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 whose books published in the US have made, over a period of years, a substantial and lasting contribution to literature fo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Cover image for George and Martha"/>
          <p:cNvPicPr/>
          <p:nvPr/>
        </p:nvPicPr>
        <p:blipFill>
          <a:blip r:embed="rId2"/>
          <a:stretch/>
        </p:blipFill>
        <p:spPr>
          <a:xfrm>
            <a:off x="1295280" y="3429000"/>
            <a:ext cx="2246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s Rivera Mexican Americ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ren’s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886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ward honors authors and illustrators who create literature that depicts the Mexican America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31912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61280" y="304920"/>
            <a:ext cx="118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decot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nually to the Illustrator of the most distinguished American picture book published in the previou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129852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over image for Flotsam"/>
          <p:cNvPicPr/>
          <p:nvPr/>
        </p:nvPicPr>
        <p:blipFill>
          <a:blip r:embed="rId2"/>
          <a:stretch/>
        </p:blipFill>
        <p:spPr>
          <a:xfrm>
            <a:off x="2514600" y="4572000"/>
            <a:ext cx="197172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205092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Cover image for The stray dog"/>
          <p:cNvPicPr/>
          <p:nvPr/>
        </p:nvPicPr>
        <p:blipFill>
          <a:blip r:embed="rId4"/>
          <a:stretch/>
        </p:blipFill>
        <p:spPr>
          <a:xfrm>
            <a:off x="304920" y="3276720"/>
            <a:ext cx="1734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a Belpre’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ward is presented to the Latino/Latina writer and illustrator whose work best portrays the Latino culture experience in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144612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over image for Esperanza rising"/>
          <p:cNvPicPr/>
          <p:nvPr/>
        </p:nvPicPr>
        <p:blipFill>
          <a:blip r:embed="rId2"/>
          <a:stretch/>
        </p:blipFill>
        <p:spPr>
          <a:xfrm>
            <a:off x="4724280" y="3657600"/>
            <a:ext cx="1839960" cy="277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ura Belpre Medal"/>
          <p:cNvPicPr/>
          <p:nvPr/>
        </p:nvPicPr>
        <p:blipFill>
          <a:blip r:embed="rId3"/>
          <a:stretch/>
        </p:blipFill>
        <p:spPr>
          <a:xfrm>
            <a:off x="6934320" y="609480"/>
            <a:ext cx="150948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Cover image for First day in grapes"/>
          <p:cNvPicPr/>
          <p:nvPr/>
        </p:nvPicPr>
        <p:blipFill>
          <a:blip r:embed="rId4"/>
          <a:stretch/>
        </p:blipFill>
        <p:spPr>
          <a:xfrm>
            <a:off x="7010280" y="2971800"/>
            <a:ext cx="1712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31Z</dcterms:created>
  <dc:creator>SCSD</dc:creator>
  <dc:description/>
  <dc:language>en-US</dc:language>
  <cp:lastModifiedBy>SCSD</cp:lastModifiedBy>
  <dcterms:modified xsi:type="dcterms:W3CDTF">2007-10-11T20:46:45Z</dcterms:modified>
  <cp:revision>15</cp:revision>
  <dc:subject/>
  <dc:title>Slide 1</dc:title>
</cp:coreProperties>
</file>